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FD36-AF34-4F64-B6B0-31E4B29F3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A59E-9143-4932-81DC-3839234CB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9A60-3578-40EB-8013-9AEB385FB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39CA-5E93-4DE0-BA41-2CF6DD5FA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B5BA-BECC-472A-9190-F3F120C2D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947C-4B92-4D87-9505-1E939F946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46E3-FE5F-4948-9755-BA80B75E0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7440-B87A-49C6-A2D8-715BC955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4345-648D-4D6A-8C7B-0994E2BE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C2D9-8E53-498E-A529-D8D59842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881D-BFC4-45CF-9F32-A5816183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F7A-C530-4672-953C-11B6AF86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28D-0425-42D3-A582-4DFCC163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BF21-B3F0-4ED8-A1FB-0131A382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B3A-5DD2-4BB5-B7AA-267DAABA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D77-554F-4837-85EB-28B91CCD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8721-6A6A-4862-8170-E1D277A8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AD01-BD31-4A17-945F-73A01EC2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DAA-F602-412E-B865-98E01333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F2F7-4E2C-45CB-A73D-C8E5A1251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50621" r="0" b="0"/>
          <a:stretch/>
        </p:blipFill>
        <p:spPr>
          <a:xfrm>
            <a:off x="165240" y="0"/>
            <a:ext cx="1746000" cy="6922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408800" y="0"/>
            <a:ext cx="849240" cy="603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8513640" y="123840"/>
            <a:ext cx="41436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oMart and CHADO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440280" y="5424480"/>
            <a:ext cx="184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k Kasprzy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O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 May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38160" y="52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2680" y="54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485640" y="-301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708360" y="2357280"/>
            <a:ext cx="167976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08360" y="2577960"/>
            <a:ext cx="16765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84000" y="2357280"/>
            <a:ext cx="360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main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21040" y="2617920"/>
            <a:ext cx="23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08360" y="3908520"/>
            <a:ext cx="167976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360" y="4130640"/>
            <a:ext cx="1676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96960" y="3908520"/>
            <a:ext cx="7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21040" y="4170240"/>
            <a:ext cx="235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22960" y="3908520"/>
            <a:ext cx="104940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22960" y="4130640"/>
            <a:ext cx="1047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15760" y="417024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19440" y="3908520"/>
            <a:ext cx="104904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19440" y="4130640"/>
            <a:ext cx="1047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91680" y="390852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d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11880" y="417024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22960" y="2357280"/>
            <a:ext cx="104940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22960" y="2577960"/>
            <a:ext cx="1047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94120" y="235728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d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15760" y="261792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19440" y="2357280"/>
            <a:ext cx="1049040" cy="887400"/>
          </a:xfrm>
          <a:prstGeom prst="roundRect">
            <a:avLst>
              <a:gd name="adj" fmla="val 1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19440" y="2577960"/>
            <a:ext cx="10476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12560" y="2397240"/>
            <a:ext cx="182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d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09000" y="2617920"/>
            <a:ext cx="27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 </a:t>
            </a:r>
            <a:r>
              <a:rPr b="0" lang="en-GB" sz="9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68480" y="2800440"/>
            <a:ext cx="83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3080" y="2800440"/>
            <a:ext cx="839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68480" y="4572000"/>
            <a:ext cx="8398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83080" y="4572000"/>
            <a:ext cx="8398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866680" y="3020760"/>
            <a:ext cx="843120" cy="1332000"/>
            <a:chOff x="2866680" y="3020760"/>
            <a:chExt cx="843120" cy="1332000"/>
          </a:xfrm>
        </p:grpSpPr>
        <p:sp>
          <p:nvSpPr>
            <p:cNvPr id="223" name=""/>
            <p:cNvSpPr/>
            <p:nvPr/>
          </p:nvSpPr>
          <p:spPr>
            <a:xfrm flipH="1" flipV="1">
              <a:off x="3287520" y="3020760"/>
              <a:ext cx="4222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87880" y="3021120"/>
              <a:ext cx="1440" cy="13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2866680" y="4349160"/>
              <a:ext cx="422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383080" y="3022560"/>
            <a:ext cx="839880" cy="1341360"/>
            <a:chOff x="5383080" y="3022560"/>
            <a:chExt cx="839880" cy="1341360"/>
          </a:xfrm>
        </p:grpSpPr>
        <p:sp>
          <p:nvSpPr>
            <p:cNvPr id="227" name=""/>
            <p:cNvSpPr/>
            <p:nvPr/>
          </p:nvSpPr>
          <p:spPr>
            <a:xfrm flipV="1">
              <a:off x="5383080" y="3033720"/>
              <a:ext cx="419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803920" y="3022560"/>
              <a:ext cx="1440" cy="13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803920" y="4362120"/>
              <a:ext cx="419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782520" y="2193840"/>
            <a:ext cx="1364040" cy="457200"/>
            <a:chOff x="3782520" y="2193840"/>
            <a:chExt cx="1364040" cy="457200"/>
          </a:xfrm>
        </p:grpSpPr>
        <p:sp>
          <p:nvSpPr>
            <p:cNvPr id="231" name=""/>
            <p:cNvSpPr/>
            <p:nvPr/>
          </p:nvSpPr>
          <p:spPr>
            <a:xfrm>
              <a:off x="3782520" y="231624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74920" y="21938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62600" y="219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68760" y="21938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864800" y="23162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58960" y="229068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26640" y="38401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84520" y="38401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94760" y="38401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K2 F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 - ‘reversed star’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se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ixed schema transfor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688040" y="1514520"/>
            <a:ext cx="1926360" cy="2322000"/>
            <a:chOff x="1688040" y="1514520"/>
            <a:chExt cx="1926360" cy="2322000"/>
          </a:xfrm>
        </p:grpSpPr>
        <p:grpSp>
          <p:nvGrpSpPr>
            <p:cNvPr id="243" name=""/>
            <p:cNvGrpSpPr/>
            <p:nvPr/>
          </p:nvGrpSpPr>
          <p:grpSpPr>
            <a:xfrm>
              <a:off x="2361960" y="2019240"/>
              <a:ext cx="1252440" cy="1817280"/>
              <a:chOff x="2361960" y="2019240"/>
              <a:chExt cx="1252440" cy="181728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2361960" y="2031840"/>
                <a:ext cx="311400" cy="387360"/>
                <a:chOff x="2361960" y="2031840"/>
                <a:chExt cx="311400" cy="3873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2361960" y="203184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368080" y="21398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290040" y="2019240"/>
                <a:ext cx="311400" cy="387360"/>
                <a:chOff x="3290040" y="2019240"/>
                <a:chExt cx="311400" cy="38736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290040" y="201924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296160" y="212724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303000" y="2610000"/>
                <a:ext cx="311400" cy="387360"/>
                <a:chOff x="3303000" y="2610000"/>
                <a:chExt cx="311400" cy="3873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303000" y="261000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309120" y="27180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2368080" y="2959560"/>
                <a:ext cx="311400" cy="387360"/>
                <a:chOff x="2368080" y="2959560"/>
                <a:chExt cx="311400" cy="387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2368080" y="295956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374200" y="306756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3277440" y="3436560"/>
                <a:ext cx="311400" cy="387360"/>
                <a:chOff x="3277440" y="3436560"/>
                <a:chExt cx="311400" cy="3873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3277440" y="343656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283560" y="354456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2679840" y="2184120"/>
                <a:ext cx="61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124800" y="22860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118680" y="2286000"/>
                <a:ext cx="0" cy="52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124800" y="2813400"/>
                <a:ext cx="18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666880" y="2324160"/>
                <a:ext cx="1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845080" y="2330640"/>
                <a:ext cx="0" cy="83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2673000" y="3162960"/>
                <a:ext cx="17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2368080" y="3449160"/>
                <a:ext cx="311400" cy="387360"/>
                <a:chOff x="2368080" y="3449160"/>
                <a:chExt cx="311400" cy="3873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2368080" y="3449160"/>
                  <a:ext cx="31140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374200" y="355716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" name=""/>
              <p:cNvSpPr/>
              <p:nvPr/>
            </p:nvSpPr>
            <p:spPr>
              <a:xfrm>
                <a:off x="2679840" y="3220200"/>
                <a:ext cx="74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30080" y="3220200"/>
                <a:ext cx="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85960" y="3665160"/>
                <a:ext cx="59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1688040" y="1514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640160" y="4041720"/>
            <a:ext cx="2468160" cy="2536920"/>
            <a:chOff x="1640160" y="4041720"/>
            <a:chExt cx="2468160" cy="2536920"/>
          </a:xfrm>
        </p:grpSpPr>
        <p:grpSp>
          <p:nvGrpSpPr>
            <p:cNvPr id="274" name=""/>
            <p:cNvGrpSpPr/>
            <p:nvPr/>
          </p:nvGrpSpPr>
          <p:grpSpPr>
            <a:xfrm>
              <a:off x="2031840" y="4559040"/>
              <a:ext cx="2076480" cy="2019600"/>
              <a:chOff x="2031840" y="4559040"/>
              <a:chExt cx="2076480" cy="201960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057400" y="4584600"/>
                <a:ext cx="311040" cy="388800"/>
                <a:chOff x="2057400" y="4584600"/>
                <a:chExt cx="311040" cy="3888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2057400" y="45846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063520" y="46929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2044800" y="5943600"/>
                <a:ext cx="311040" cy="388800"/>
                <a:chOff x="2044800" y="5943600"/>
                <a:chExt cx="311040" cy="3888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44800" y="59436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50920" y="60519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2933640" y="5930640"/>
                <a:ext cx="311040" cy="389160"/>
                <a:chOff x="2933640" y="5930640"/>
                <a:chExt cx="311040" cy="38916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933640" y="5930640"/>
                  <a:ext cx="31104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939760" y="603900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031840" y="5244840"/>
                <a:ext cx="311400" cy="389160"/>
                <a:chOff x="2031840" y="5244840"/>
                <a:chExt cx="311400" cy="3891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2031840" y="5244840"/>
                  <a:ext cx="31140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037960" y="53532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908080" y="4559040"/>
                <a:ext cx="311400" cy="389160"/>
                <a:chOff x="2908080" y="4559040"/>
                <a:chExt cx="311400" cy="3891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908080" y="4559040"/>
                  <a:ext cx="31140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914200" y="466740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2895480" y="5257800"/>
                <a:ext cx="311040" cy="388800"/>
                <a:chOff x="2895480" y="5257800"/>
                <a:chExt cx="311040" cy="3888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895480" y="52578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901600" y="5366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759120" y="5968800"/>
                <a:ext cx="311040" cy="389160"/>
                <a:chOff x="3759120" y="5968800"/>
                <a:chExt cx="311040" cy="3891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3759120" y="5968800"/>
                  <a:ext cx="31104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765240" y="6077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797280" y="4572000"/>
                <a:ext cx="311040" cy="388800"/>
                <a:chOff x="3797280" y="4572000"/>
                <a:chExt cx="311040" cy="3888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797280" y="45720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3803400" y="46803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2349360" y="5448240"/>
                <a:ext cx="54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74920" y="48006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84480" y="4991040"/>
                <a:ext cx="0" cy="2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924360" y="499104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13000" y="5448240"/>
                <a:ext cx="29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3517920" y="4825800"/>
                <a:ext cx="0" cy="59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504960" y="4838760"/>
                <a:ext cx="29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63760" y="6134040"/>
                <a:ext cx="49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3441240" y="6273720"/>
                <a:ext cx="3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429000" y="6286320"/>
                <a:ext cx="0" cy="29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2158920" y="6578640"/>
                <a:ext cx="127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2171520" y="6349680"/>
                <a:ext cx="0" cy="21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640160" y="4041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000680" y="2403360"/>
            <a:ext cx="1346040" cy="949320"/>
            <a:chOff x="4000680" y="2403360"/>
            <a:chExt cx="1346040" cy="949320"/>
          </a:xfrm>
        </p:grpSpPr>
        <p:sp>
          <p:nvSpPr>
            <p:cNvPr id="313" name=""/>
            <p:cNvSpPr/>
            <p:nvPr/>
          </p:nvSpPr>
          <p:spPr>
            <a:xfrm>
              <a:off x="4694040" y="2403360"/>
              <a:ext cx="494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00680" y="2869920"/>
              <a:ext cx="1346040" cy="48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267080" y="4029120"/>
            <a:ext cx="1257480" cy="1139760"/>
            <a:chOff x="4267080" y="4029120"/>
            <a:chExt cx="1257480" cy="1139760"/>
          </a:xfrm>
        </p:grpSpPr>
        <p:sp>
          <p:nvSpPr>
            <p:cNvPr id="316" name=""/>
            <p:cNvSpPr/>
            <p:nvPr/>
          </p:nvSpPr>
          <p:spPr>
            <a:xfrm>
              <a:off x="4567320" y="4029120"/>
              <a:ext cx="483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267080" y="4241520"/>
              <a:ext cx="1257480" cy="92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626080" y="2212920"/>
            <a:ext cx="1601640" cy="2481120"/>
            <a:chOff x="5626080" y="2212920"/>
            <a:chExt cx="1601640" cy="2481120"/>
          </a:xfrm>
        </p:grpSpPr>
        <p:grpSp>
          <p:nvGrpSpPr>
            <p:cNvPr id="319" name=""/>
            <p:cNvGrpSpPr/>
            <p:nvPr/>
          </p:nvGrpSpPr>
          <p:grpSpPr>
            <a:xfrm>
              <a:off x="5626080" y="3098520"/>
              <a:ext cx="1601640" cy="1595520"/>
              <a:chOff x="5626080" y="3098520"/>
              <a:chExt cx="1601640" cy="159552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6254640" y="3669840"/>
                <a:ext cx="312840" cy="389160"/>
                <a:chOff x="6254640" y="3669840"/>
                <a:chExt cx="312840" cy="3891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254640" y="3669840"/>
                  <a:ext cx="312840" cy="389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260760" y="3778200"/>
                  <a:ext cx="30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6261120" y="4306680"/>
                <a:ext cx="312480" cy="387360"/>
                <a:chOff x="6261120" y="4306680"/>
                <a:chExt cx="312480" cy="38736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6261120" y="4306680"/>
                  <a:ext cx="31248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267240" y="4414680"/>
                  <a:ext cx="30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916680" y="3682800"/>
                <a:ext cx="311040" cy="388800"/>
                <a:chOff x="6916680" y="3682800"/>
                <a:chExt cx="311040" cy="3888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916680" y="36828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922800" y="3791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242040" y="3098520"/>
                <a:ext cx="312840" cy="387360"/>
                <a:chOff x="6242040" y="3098520"/>
                <a:chExt cx="312840" cy="38736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242040" y="3098520"/>
                  <a:ext cx="312840" cy="387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248160" y="3206520"/>
                  <a:ext cx="306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5626080" y="3682800"/>
                <a:ext cx="311040" cy="388800"/>
                <a:chOff x="5626080" y="3682800"/>
                <a:chExt cx="311040" cy="38880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5626080" y="3682800"/>
                  <a:ext cx="311040" cy="388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632200" y="3791160"/>
                  <a:ext cx="30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5943600" y="38476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592680" y="38476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400800" y="3492000"/>
                <a:ext cx="0" cy="17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406920" y="4065120"/>
                <a:ext cx="0" cy="2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6183360" y="22129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formation principl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:1, n: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men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: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:1,n: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pplic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 database meta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 input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, dms, cardinal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 configuration f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late configuration into DD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Buil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formation configuration fi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,d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ral, reference 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: exported, im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umns subset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 table name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jection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al fil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6880" y="29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sets, Attributes and Filt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62120" y="4122720"/>
            <a:ext cx="1212840" cy="1244520"/>
            <a:chOff x="762120" y="4122720"/>
            <a:chExt cx="1212840" cy="1244520"/>
          </a:xfrm>
        </p:grpSpPr>
        <p:sp>
          <p:nvSpPr>
            <p:cNvPr id="348" name=""/>
            <p:cNvSpPr/>
            <p:nvPr/>
          </p:nvSpPr>
          <p:spPr>
            <a:xfrm>
              <a:off x="762120" y="4122720"/>
              <a:ext cx="12128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EN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3560" y="4313160"/>
              <a:ext cx="1209960" cy="105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id(P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stable_i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sta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chrom_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hromosom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display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790560" y="2835360"/>
            <a:ext cx="1143000" cy="8492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069920" y="3201840"/>
            <a:ext cx="549360" cy="328680"/>
            <a:chOff x="1069920" y="3201840"/>
            <a:chExt cx="549360" cy="328680"/>
          </a:xfrm>
        </p:grpSpPr>
        <p:sp>
          <p:nvSpPr>
            <p:cNvPr id="352" name=""/>
            <p:cNvSpPr/>
            <p:nvPr/>
          </p:nvSpPr>
          <p:spPr>
            <a:xfrm>
              <a:off x="1276200" y="3311640"/>
              <a:ext cx="136800" cy="10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82840" y="3201840"/>
              <a:ext cx="13644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69920" y="3201840"/>
              <a:ext cx="13824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82840" y="3476520"/>
              <a:ext cx="13644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69920" y="3476520"/>
              <a:ext cx="13824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1208160" y="325764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3000" y="342108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413000" y="325764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208160" y="342108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71440" y="3260880"/>
              <a:ext cx="341280" cy="245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186080" y="2424240"/>
            <a:ext cx="42688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1953720" y="2362320"/>
            <a:ext cx="1910160" cy="828720"/>
            <a:chOff x="1953720" y="2362320"/>
            <a:chExt cx="1910160" cy="828720"/>
          </a:xfrm>
        </p:grpSpPr>
        <p:sp>
          <p:nvSpPr>
            <p:cNvPr id="364" name=""/>
            <p:cNvSpPr/>
            <p:nvPr/>
          </p:nvSpPr>
          <p:spPr>
            <a:xfrm>
              <a:off x="2430360" y="2362320"/>
              <a:ext cx="960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953720" y="2894400"/>
              <a:ext cx="3351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38440" y="2894400"/>
              <a:ext cx="32544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055600" y="3146400"/>
            <a:ext cx="1726920" cy="457200"/>
            <a:chOff x="2055600" y="3146400"/>
            <a:chExt cx="1726920" cy="457200"/>
          </a:xfrm>
        </p:grpSpPr>
        <p:sp>
          <p:nvSpPr>
            <p:cNvPr id="368" name=""/>
            <p:cNvSpPr/>
            <p:nvPr/>
          </p:nvSpPr>
          <p:spPr>
            <a:xfrm>
              <a:off x="2441520" y="3146400"/>
              <a:ext cx="9601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17920" y="3373200"/>
              <a:ext cx="26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2055600" y="340344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136240" y="3606840"/>
            <a:ext cx="1718280" cy="1158840"/>
            <a:chOff x="2136240" y="3606840"/>
            <a:chExt cx="1718280" cy="1158840"/>
          </a:xfrm>
        </p:grpSpPr>
        <p:sp>
          <p:nvSpPr>
            <p:cNvPr id="372" name=""/>
            <p:cNvSpPr/>
            <p:nvPr/>
          </p:nvSpPr>
          <p:spPr>
            <a:xfrm>
              <a:off x="2450880" y="3932280"/>
              <a:ext cx="9604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3549600" y="3606840"/>
              <a:ext cx="30492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136240" y="4521240"/>
              <a:ext cx="17316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116080" y="4054320"/>
            <a:ext cx="1808280" cy="1120680"/>
            <a:chOff x="2116080" y="4054320"/>
            <a:chExt cx="1808280" cy="1120680"/>
          </a:xfrm>
        </p:grpSpPr>
        <p:sp>
          <p:nvSpPr>
            <p:cNvPr id="376" name=""/>
            <p:cNvSpPr/>
            <p:nvPr/>
          </p:nvSpPr>
          <p:spPr>
            <a:xfrm>
              <a:off x="2450880" y="4717800"/>
              <a:ext cx="9604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116080" y="495756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529080" y="4054320"/>
              <a:ext cx="39528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35396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65280" y="13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ortable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ortables and Lin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rcRect l="14841" t="9693" r="21138" b="2030"/>
          <a:stretch/>
        </p:blipFill>
        <p:spPr>
          <a:xfrm>
            <a:off x="592200" y="1779480"/>
            <a:ext cx="3763800" cy="3757680"/>
          </a:xfrm>
          <a:prstGeom prst="rect">
            <a:avLst/>
          </a:prstGeom>
          <a:ln w="9360">
            <a:solidFill>
              <a:srgbClr val="666699"/>
            </a:solidFill>
            <a:miter/>
          </a:ln>
        </p:spPr>
      </p:pic>
      <p:grpSp>
        <p:nvGrpSpPr>
          <p:cNvPr id="382" name=""/>
          <p:cNvGrpSpPr/>
          <p:nvPr/>
        </p:nvGrpSpPr>
        <p:grpSpPr>
          <a:xfrm>
            <a:off x="609480" y="1803240"/>
            <a:ext cx="7025400" cy="1689120"/>
            <a:chOff x="609480" y="1803240"/>
            <a:chExt cx="7025400" cy="1689120"/>
          </a:xfrm>
        </p:grpSpPr>
        <p:sp>
          <p:nvSpPr>
            <p:cNvPr id="383" name=""/>
            <p:cNvSpPr/>
            <p:nvPr/>
          </p:nvSpPr>
          <p:spPr>
            <a:xfrm>
              <a:off x="609480" y="1803240"/>
              <a:ext cx="3886200" cy="168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309720" y="2276640"/>
              <a:ext cx="132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set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47640" y="4381560"/>
            <a:ext cx="6987240" cy="1206360"/>
            <a:chOff x="647640" y="4381560"/>
            <a:chExt cx="6987240" cy="1206360"/>
          </a:xfrm>
        </p:grpSpPr>
        <p:sp>
          <p:nvSpPr>
            <p:cNvPr id="386" name=""/>
            <p:cNvSpPr/>
            <p:nvPr/>
          </p:nvSpPr>
          <p:spPr>
            <a:xfrm>
              <a:off x="647640" y="4381560"/>
              <a:ext cx="3886200" cy="1206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09720" y="4702320"/>
              <a:ext cx="132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set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22440" y="3619440"/>
            <a:ext cx="6786720" cy="622440"/>
            <a:chOff x="622440" y="3619440"/>
            <a:chExt cx="6786720" cy="622440"/>
          </a:xfrm>
        </p:grpSpPr>
        <p:sp>
          <p:nvSpPr>
            <p:cNvPr id="389" name=""/>
            <p:cNvSpPr/>
            <p:nvPr/>
          </p:nvSpPr>
          <p:spPr>
            <a:xfrm>
              <a:off x="622440" y="3619440"/>
              <a:ext cx="3924000" cy="622440"/>
            </a:xfrm>
            <a:prstGeom prst="rect">
              <a:avLst/>
            </a:prstGeom>
            <a:noFill/>
            <a:ln w="1908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33640" y="36352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e2900"/>
                  </a:solidFill>
                  <a:latin typeface="Times New Roman"/>
                </a:rPr>
                <a:t>Lin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80800" y="311040"/>
            <a:ext cx="693108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ortable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ortables and Lin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2895480"/>
            <a:ext cx="1905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2819520"/>
            <a:ext cx="19047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25680" y="41148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P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819760" y="4038480"/>
            <a:ext cx="33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Ensembl G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38440" y="24019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06440" y="23605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57080" y="3005280"/>
            <a:ext cx="18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 = uniprot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tributes = uniprot_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61160" y="2971800"/>
            <a:ext cx="18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 = uniprot_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lters = uniprot_ac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447920" y="2971800"/>
            <a:ext cx="1981080" cy="3808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629400" y="2895480"/>
            <a:ext cx="19810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352680" y="2514240"/>
            <a:ext cx="914400" cy="609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62720" y="2514600"/>
            <a:ext cx="1066680" cy="533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67080" y="1828800"/>
            <a:ext cx="13716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32320" y="2208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20000" y="4876920"/>
            <a:ext cx="29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uniprot_ac FROM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588024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… FROM … WHERE uniprot_ac IN (…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5257800"/>
            <a:ext cx="0" cy="60948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18960" y="374400"/>
            <a:ext cx="693108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portables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mportables and Lin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2895480"/>
            <a:ext cx="1828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2819520"/>
            <a:ext cx="18288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6400" y="41148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19760" y="3962520"/>
            <a:ext cx="33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Ensembl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738440" y="24019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6440" y="236052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660680" y="3005280"/>
            <a:ext cx="1847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=genomic_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tributes=chr_nam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star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763680" y="2971800"/>
            <a:ext cx="1890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me=genomic_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lters=chr_name (=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start (&gt;=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r_end (&lt;=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447920" y="2971800"/>
            <a:ext cx="1981080" cy="38088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2895480"/>
            <a:ext cx="1981080" cy="3812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3352680" y="2514240"/>
            <a:ext cx="914400" cy="60948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62720" y="2514600"/>
            <a:ext cx="1066680" cy="53352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1828800"/>
            <a:ext cx="1371600" cy="12193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32320" y="2208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22520" y="5029200"/>
            <a:ext cx="47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chr_name, chr_start, chr_end FROM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447920" y="6032520"/>
            <a:ext cx="769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LECT … FROM … WHERE (chr_name = 1 AND chr_start &gt;= 100 AND chr_end &lt; = 10000) OR (chr_name = 2 AND chr_start &gt;= 50 AND chr_end &lt; = 56780)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724280" y="5410080"/>
            <a:ext cx="0" cy="60984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 configu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erachical representation of fliters and attrib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l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ortables and Impor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ic relational map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a data - defines user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 interfaces ‘advanced search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b wiz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ry optim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uctured database views (datas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52320" y="28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set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498600" y="3400560"/>
            <a:ext cx="1143000" cy="8492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84240" y="3876840"/>
            <a:ext cx="136440" cy="1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90520" y="3767040"/>
            <a:ext cx="136800" cy="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7960" y="3767040"/>
            <a:ext cx="137880" cy="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90520" y="4041720"/>
            <a:ext cx="13680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7960" y="4041720"/>
            <a:ext cx="137880" cy="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915840" y="3822840"/>
            <a:ext cx="6984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20680" y="3986280"/>
            <a:ext cx="69840" cy="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120680" y="3822840"/>
            <a:ext cx="6984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915840" y="3986280"/>
            <a:ext cx="69840" cy="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441880" y="1417680"/>
            <a:ext cx="3974760" cy="2271600"/>
            <a:chOff x="2441880" y="1417680"/>
            <a:chExt cx="3974760" cy="2271600"/>
          </a:xfrm>
        </p:grpSpPr>
        <p:grpSp>
          <p:nvGrpSpPr>
            <p:cNvPr id="441" name=""/>
            <p:cNvGrpSpPr/>
            <p:nvPr/>
          </p:nvGrpSpPr>
          <p:grpSpPr>
            <a:xfrm>
              <a:off x="4305240" y="1417680"/>
              <a:ext cx="2111400" cy="2271600"/>
              <a:chOff x="4305240" y="1417680"/>
              <a:chExt cx="2111400" cy="2271600"/>
            </a:xfrm>
          </p:grpSpPr>
          <p:pic>
            <p:nvPicPr>
              <p:cNvPr id="442" name="" descr=""/>
              <p:cNvPicPr/>
              <p:nvPr/>
            </p:nvPicPr>
            <p:blipFill>
              <a:blip r:embed="rId1"/>
              <a:srcRect l="16285" t="0" r="17911" b="5602"/>
              <a:stretch/>
            </p:blipFill>
            <p:spPr>
              <a:xfrm>
                <a:off x="4305240" y="1417680"/>
                <a:ext cx="2111400" cy="22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4340160" y="2260800"/>
                <a:ext cx="1568520" cy="140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2441880" y="3038400"/>
              <a:ext cx="575280" cy="457200"/>
              <a:chOff x="2441880" y="3038400"/>
              <a:chExt cx="575280" cy="457200"/>
            </a:xfrm>
          </p:grpSpPr>
          <p:sp>
            <p:nvSpPr>
              <p:cNvPr id="445" name=""/>
              <p:cNvSpPr/>
              <p:nvPr/>
            </p:nvSpPr>
            <p:spPr>
              <a:xfrm>
                <a:off x="2503440" y="3038400"/>
                <a:ext cx="45684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441880" y="311112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2410200" y="3948120"/>
            <a:ext cx="4044600" cy="2490840"/>
            <a:chOff x="2410200" y="3948120"/>
            <a:chExt cx="4044600" cy="2490840"/>
          </a:xfrm>
        </p:grpSpPr>
        <p:pic>
          <p:nvPicPr>
            <p:cNvPr id="448" name="" descr=""/>
            <p:cNvPicPr/>
            <p:nvPr/>
          </p:nvPicPr>
          <p:blipFill>
            <a:blip r:embed="rId2"/>
            <a:srcRect l="16285" t="0" r="17911" b="5602"/>
            <a:stretch/>
          </p:blipFill>
          <p:spPr>
            <a:xfrm>
              <a:off x="4343400" y="4167360"/>
              <a:ext cx="2111400" cy="22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9" name=""/>
            <p:cNvGrpSpPr/>
            <p:nvPr/>
          </p:nvGrpSpPr>
          <p:grpSpPr>
            <a:xfrm>
              <a:off x="2410200" y="3948120"/>
              <a:ext cx="575280" cy="1058760"/>
              <a:chOff x="2410200" y="3948120"/>
              <a:chExt cx="575280" cy="1058760"/>
            </a:xfrm>
          </p:grpSpPr>
          <p:sp>
            <p:nvSpPr>
              <p:cNvPr id="450" name=""/>
              <p:cNvSpPr/>
              <p:nvPr/>
            </p:nvSpPr>
            <p:spPr>
              <a:xfrm>
                <a:off x="2487600" y="3948120"/>
                <a:ext cx="457200" cy="105876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410200" y="426564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2" name=""/>
          <p:cNvGrpSpPr/>
          <p:nvPr/>
        </p:nvGrpSpPr>
        <p:grpSpPr>
          <a:xfrm>
            <a:off x="3010320" y="2503440"/>
            <a:ext cx="5692320" cy="2271600"/>
            <a:chOff x="3010320" y="2503440"/>
            <a:chExt cx="5692320" cy="2271600"/>
          </a:xfrm>
        </p:grpSpPr>
        <p:grpSp>
          <p:nvGrpSpPr>
            <p:cNvPr id="453" name=""/>
            <p:cNvGrpSpPr/>
            <p:nvPr/>
          </p:nvGrpSpPr>
          <p:grpSpPr>
            <a:xfrm>
              <a:off x="3071880" y="2503440"/>
              <a:ext cx="5630760" cy="2271600"/>
              <a:chOff x="3071880" y="2503440"/>
              <a:chExt cx="5630760" cy="2271600"/>
            </a:xfrm>
          </p:grpSpPr>
          <p:grpSp>
            <p:nvGrpSpPr>
              <p:cNvPr id="454" name=""/>
              <p:cNvGrpSpPr/>
              <p:nvPr/>
            </p:nvGrpSpPr>
            <p:grpSpPr>
              <a:xfrm>
                <a:off x="6591240" y="2503440"/>
                <a:ext cx="2111400" cy="2271600"/>
                <a:chOff x="6591240" y="2503440"/>
                <a:chExt cx="2111400" cy="2271600"/>
              </a:xfrm>
            </p:grpSpPr>
            <p:pic>
              <p:nvPicPr>
                <p:cNvPr id="455" name="" descr=""/>
                <p:cNvPicPr/>
                <p:nvPr/>
              </p:nvPicPr>
              <p:blipFill>
                <a:blip r:embed="rId3"/>
                <a:srcRect l="16285" t="0" r="17911" b="5602"/>
                <a:stretch/>
              </p:blipFill>
              <p:spPr>
                <a:xfrm>
                  <a:off x="6591240" y="2503440"/>
                  <a:ext cx="2111400" cy="22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6" name=""/>
                <p:cNvSpPr/>
                <p:nvPr/>
              </p:nvSpPr>
              <p:spPr>
                <a:xfrm>
                  <a:off x="6627960" y="3968640"/>
                  <a:ext cx="1568160" cy="788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" name=""/>
              <p:cNvSpPr/>
              <p:nvPr/>
            </p:nvSpPr>
            <p:spPr>
              <a:xfrm>
                <a:off x="3071880" y="3481560"/>
                <a:ext cx="457200" cy="7110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010320" y="367344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36560" y="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rtEdito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rcRect l="2970" t="3044" r="0" b="704"/>
          <a:stretch/>
        </p:blipFill>
        <p:spPr>
          <a:xfrm>
            <a:off x="736560" y="1055520"/>
            <a:ext cx="788184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ble naming conven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ïve configu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222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Meta tables                meta_cont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Data tables                 dataset__content__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Data t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Main                       __main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Dimension              __d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HG Mincho Light J"/>
              </a:rPr>
              <a:t>Colum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Key                          _k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291960" y="1015920"/>
            <a:ext cx="8610840" cy="5364360"/>
            <a:chOff x="291960" y="1015920"/>
            <a:chExt cx="8610840" cy="5364360"/>
          </a:xfrm>
        </p:grpSpPr>
        <p:sp>
          <p:nvSpPr>
            <p:cNvPr id="465" name=""/>
            <p:cNvSpPr/>
            <p:nvPr/>
          </p:nvSpPr>
          <p:spPr>
            <a:xfrm>
              <a:off x="7746840" y="101592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Retriev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4600" y="4295880"/>
              <a:ext cx="1523880" cy="11728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yData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45400" y="4295880"/>
              <a:ext cx="990360" cy="715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78360" y="4295880"/>
              <a:ext cx="990720" cy="7156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Veg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78560" y="4881600"/>
              <a:ext cx="990720" cy="7174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Ensemb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11880" y="4881600"/>
              <a:ext cx="990720" cy="7174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UniPr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68680" y="4556160"/>
              <a:ext cx="990720" cy="7174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yM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45200" y="4881600"/>
              <a:ext cx="990360" cy="717480"/>
            </a:xfrm>
            <a:prstGeom prst="flowChartMagneticDisk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S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02000" y="2341440"/>
              <a:ext cx="4267080" cy="65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502000" y="260208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559400" y="2341440"/>
              <a:ext cx="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52080" y="2668680"/>
              <a:ext cx="1325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BioMart A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13280" y="2341440"/>
              <a:ext cx="65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98560" y="234144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959200" y="17553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4102200" y="175536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33880" y="1560600"/>
              <a:ext cx="12628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Explo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45000" y="1560600"/>
              <a:ext cx="10666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She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626080" y="1755720"/>
              <a:ext cx="0" cy="58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92560" y="1560600"/>
              <a:ext cx="9907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1960" y="3710160"/>
              <a:ext cx="8610840" cy="26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1960" y="1365120"/>
              <a:ext cx="8610840" cy="195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73400" y="4686480"/>
              <a:ext cx="990360" cy="415800"/>
            </a:xfrm>
            <a:prstGeom prst="rightArrow">
              <a:avLst>
                <a:gd name="adj1" fmla="val 50000"/>
                <a:gd name="adj2" fmla="val 5954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20760" y="5076720"/>
              <a:ext cx="115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Schem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trans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125080" y="4100400"/>
              <a:ext cx="115308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Buil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20960" y="5533920"/>
              <a:ext cx="68580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92360" y="4100400"/>
              <a:ext cx="1143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MartEdi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62200" y="5273640"/>
              <a:ext cx="103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83080" y="3319560"/>
              <a:ext cx="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724160" y="3360600"/>
              <a:ext cx="116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68880" y="4100400"/>
              <a:ext cx="3276720" cy="175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99720" y="3903840"/>
              <a:ext cx="20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Public data (local or remot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6024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architec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5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Regist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74720" y="3848040"/>
            <a:ext cx="1600200" cy="2095560"/>
            <a:chOff x="774720" y="3848040"/>
            <a:chExt cx="1600200" cy="2095560"/>
          </a:xfrm>
        </p:grpSpPr>
        <p:sp>
          <p:nvSpPr>
            <p:cNvPr id="500" name=""/>
            <p:cNvSpPr/>
            <p:nvPr/>
          </p:nvSpPr>
          <p:spPr>
            <a:xfrm>
              <a:off x="1231920" y="3848040"/>
              <a:ext cx="457200" cy="4572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74720" y="4788000"/>
              <a:ext cx="1600200" cy="1155600"/>
              <a:chOff x="774720" y="4788000"/>
              <a:chExt cx="1600200" cy="1155600"/>
            </a:xfrm>
          </p:grpSpPr>
          <p:sp>
            <p:nvSpPr>
              <p:cNvPr id="502" name=""/>
              <p:cNvSpPr/>
              <p:nvPr/>
            </p:nvSpPr>
            <p:spPr>
              <a:xfrm>
                <a:off x="774720" y="4788000"/>
                <a:ext cx="1600200" cy="1155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014120" y="5133960"/>
                <a:ext cx="10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W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977760" y="1733400"/>
            <a:ext cx="1074960" cy="1708200"/>
            <a:chOff x="977760" y="1733400"/>
            <a:chExt cx="1074960" cy="1708200"/>
          </a:xfrm>
        </p:grpSpPr>
        <p:grpSp>
          <p:nvGrpSpPr>
            <p:cNvPr id="505" name=""/>
            <p:cNvGrpSpPr/>
            <p:nvPr/>
          </p:nvGrpSpPr>
          <p:grpSpPr>
            <a:xfrm>
              <a:off x="977760" y="1733400"/>
              <a:ext cx="1074960" cy="879480"/>
              <a:chOff x="977760" y="1733400"/>
              <a:chExt cx="1074960" cy="879480"/>
            </a:xfrm>
          </p:grpSpPr>
          <p:sp>
            <p:nvSpPr>
              <p:cNvPr id="506" name=""/>
              <p:cNvSpPr/>
              <p:nvPr/>
            </p:nvSpPr>
            <p:spPr>
              <a:xfrm>
                <a:off x="977760" y="1733400"/>
                <a:ext cx="77004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130400" y="188568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282680" y="2037960"/>
                <a:ext cx="77004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 flipV="1">
              <a:off x="1447920" y="3060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6769080" y="3860640"/>
            <a:ext cx="1600200" cy="2006640"/>
            <a:chOff x="6769080" y="3860640"/>
            <a:chExt cx="1600200" cy="2006640"/>
          </a:xfrm>
        </p:grpSpPr>
        <p:grpSp>
          <p:nvGrpSpPr>
            <p:cNvPr id="511" name=""/>
            <p:cNvGrpSpPr/>
            <p:nvPr/>
          </p:nvGrpSpPr>
          <p:grpSpPr>
            <a:xfrm>
              <a:off x="6769080" y="4711680"/>
              <a:ext cx="1600200" cy="1155600"/>
              <a:chOff x="6769080" y="4711680"/>
              <a:chExt cx="1600200" cy="1155600"/>
            </a:xfrm>
          </p:grpSpPr>
          <p:sp>
            <p:nvSpPr>
              <p:cNvPr id="512" name=""/>
              <p:cNvSpPr/>
              <p:nvPr/>
            </p:nvSpPr>
            <p:spPr>
              <a:xfrm>
                <a:off x="6769080" y="4711680"/>
                <a:ext cx="1600200" cy="1155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008840" y="5057640"/>
                <a:ext cx="87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U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7365960" y="3860640"/>
              <a:ext cx="457200" cy="457200"/>
            </a:xfrm>
            <a:prstGeom prst="foldedCorner">
              <a:avLst>
                <a:gd name="adj" fmla="val 125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781680" y="1720800"/>
            <a:ext cx="1074960" cy="1708200"/>
            <a:chOff x="6781680" y="1720800"/>
            <a:chExt cx="1074960" cy="1708200"/>
          </a:xfrm>
        </p:grpSpPr>
        <p:grpSp>
          <p:nvGrpSpPr>
            <p:cNvPr id="516" name=""/>
            <p:cNvGrpSpPr/>
            <p:nvPr/>
          </p:nvGrpSpPr>
          <p:grpSpPr>
            <a:xfrm>
              <a:off x="6781680" y="1720800"/>
              <a:ext cx="1074960" cy="879480"/>
              <a:chOff x="6781680" y="1720800"/>
              <a:chExt cx="1074960" cy="879480"/>
            </a:xfrm>
          </p:grpSpPr>
          <p:sp>
            <p:nvSpPr>
              <p:cNvPr id="517" name=""/>
              <p:cNvSpPr/>
              <p:nvPr/>
            </p:nvSpPr>
            <p:spPr>
              <a:xfrm>
                <a:off x="6781680" y="1720800"/>
                <a:ext cx="77004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934320" y="187308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086600" y="2025360"/>
                <a:ext cx="77004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 flipV="1">
              <a:off x="7556400" y="3048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406440" y="1219320"/>
            <a:ext cx="8128080" cy="4317840"/>
            <a:chOff x="406440" y="1219320"/>
            <a:chExt cx="8128080" cy="4317840"/>
          </a:xfrm>
        </p:grpSpPr>
        <p:grpSp>
          <p:nvGrpSpPr>
            <p:cNvPr id="522" name=""/>
            <p:cNvGrpSpPr/>
            <p:nvPr/>
          </p:nvGrpSpPr>
          <p:grpSpPr>
            <a:xfrm>
              <a:off x="3898800" y="1720800"/>
              <a:ext cx="1074960" cy="1708200"/>
              <a:chOff x="3898800" y="1720800"/>
              <a:chExt cx="1074960" cy="17082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3898800" y="1720800"/>
                <a:ext cx="1074960" cy="879480"/>
                <a:chOff x="3898800" y="1720800"/>
                <a:chExt cx="1074960" cy="87948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898800" y="1720800"/>
                  <a:ext cx="770040" cy="574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051440" y="1873080"/>
                  <a:ext cx="769680" cy="574560"/>
                </a:xfrm>
                <a:prstGeom prst="can">
                  <a:avLst>
                    <a:gd name="adj" fmla="val 250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203720" y="2025360"/>
                  <a:ext cx="770040" cy="574920"/>
                </a:xfrm>
                <a:prstGeom prst="can">
                  <a:avLst>
                    <a:gd name="adj" fmla="val 250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 flipV="1">
                <a:off x="4533840" y="30481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2806560" y="3835440"/>
              <a:ext cx="3619440" cy="1701720"/>
              <a:chOff x="2806560" y="3835440"/>
              <a:chExt cx="3619440" cy="1701720"/>
            </a:xfrm>
          </p:grpSpPr>
          <p:sp>
            <p:nvSpPr>
              <p:cNvPr id="529" name=""/>
              <p:cNvSpPr/>
              <p:nvPr/>
            </p:nvSpPr>
            <p:spPr>
              <a:xfrm>
                <a:off x="4038480" y="4711680"/>
                <a:ext cx="1105200" cy="825480"/>
              </a:xfrm>
              <a:prstGeom prst="can">
                <a:avLst>
                  <a:gd name="adj" fmla="val 250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81560" y="3835440"/>
                <a:ext cx="45720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6044760" y="407664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806560" y="407664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6032520" y="1333440"/>
              <a:ext cx="2502000" cy="241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6440" y="1219320"/>
              <a:ext cx="2502000" cy="241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1003320" y="1657440"/>
            <a:ext cx="1074240" cy="1708200"/>
            <a:chOff x="1003320" y="1657440"/>
            <a:chExt cx="1074240" cy="1708200"/>
          </a:xfrm>
        </p:grpSpPr>
        <p:grpSp>
          <p:nvGrpSpPr>
            <p:cNvPr id="536" name=""/>
            <p:cNvGrpSpPr/>
            <p:nvPr/>
          </p:nvGrpSpPr>
          <p:grpSpPr>
            <a:xfrm>
              <a:off x="1003320" y="1657440"/>
              <a:ext cx="1074240" cy="879480"/>
              <a:chOff x="1003320" y="1657440"/>
              <a:chExt cx="1074240" cy="879480"/>
            </a:xfrm>
          </p:grpSpPr>
          <p:sp>
            <p:nvSpPr>
              <p:cNvPr id="537" name=""/>
              <p:cNvSpPr/>
              <p:nvPr/>
            </p:nvSpPr>
            <p:spPr>
              <a:xfrm>
                <a:off x="1003320" y="165744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155600" y="1809720"/>
                <a:ext cx="76932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307880" y="1962000"/>
                <a:ext cx="76968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 flipV="1">
              <a:off x="1473120" y="298476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7023240" y="1860480"/>
            <a:ext cx="1074240" cy="1708200"/>
            <a:chOff x="7023240" y="1860480"/>
            <a:chExt cx="1074240" cy="1708200"/>
          </a:xfrm>
        </p:grpSpPr>
        <p:grpSp>
          <p:nvGrpSpPr>
            <p:cNvPr id="542" name=""/>
            <p:cNvGrpSpPr/>
            <p:nvPr/>
          </p:nvGrpSpPr>
          <p:grpSpPr>
            <a:xfrm>
              <a:off x="7023240" y="1860480"/>
              <a:ext cx="1074240" cy="879480"/>
              <a:chOff x="7023240" y="1860480"/>
              <a:chExt cx="1074240" cy="879480"/>
            </a:xfrm>
          </p:grpSpPr>
          <p:sp>
            <p:nvSpPr>
              <p:cNvPr id="543" name=""/>
              <p:cNvSpPr/>
              <p:nvPr/>
            </p:nvSpPr>
            <p:spPr>
              <a:xfrm>
                <a:off x="7023240" y="1860480"/>
                <a:ext cx="76968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175520" y="2012760"/>
                <a:ext cx="769320" cy="57456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27800" y="2165040"/>
                <a:ext cx="769680" cy="57492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 flipV="1">
              <a:off x="7493040" y="3187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2728800" y="1714680"/>
            <a:ext cx="3405240" cy="459864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ass diagram - configu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125800" y="1893960"/>
            <a:ext cx="5529240" cy="339732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ass diagram - query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rcRect l="0" t="19738" r="0" b="62455"/>
          <a:stretch/>
        </p:blipFill>
        <p:spPr>
          <a:xfrm>
            <a:off x="380880" y="5727600"/>
            <a:ext cx="6488280" cy="8366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9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rcRect l="14397" t="10229" r="16089" b="3295"/>
          <a:stretch/>
        </p:blipFill>
        <p:spPr>
          <a:xfrm>
            <a:off x="546120" y="1752480"/>
            <a:ext cx="417024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6280" y="-36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Shel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797120" y="1484280"/>
            <a:ext cx="586584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3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Explor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3480" y="13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1619280" y="1467000"/>
            <a:ext cx="586584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sche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265400" y="3162240"/>
            <a:ext cx="973080" cy="831960"/>
            <a:chOff x="1265400" y="3162240"/>
            <a:chExt cx="973080" cy="831960"/>
          </a:xfrm>
        </p:grpSpPr>
        <p:grpSp>
          <p:nvGrpSpPr>
            <p:cNvPr id="61" name=""/>
            <p:cNvGrpSpPr/>
            <p:nvPr/>
          </p:nvGrpSpPr>
          <p:grpSpPr>
            <a:xfrm>
              <a:off x="1265400" y="3162240"/>
              <a:ext cx="515880" cy="374760"/>
              <a:chOff x="1265400" y="3162240"/>
              <a:chExt cx="515880" cy="374760"/>
            </a:xfrm>
          </p:grpSpPr>
          <p:sp>
            <p:nvSpPr>
              <p:cNvPr id="62" name=""/>
              <p:cNvSpPr/>
              <p:nvPr/>
            </p:nvSpPr>
            <p:spPr>
              <a:xfrm>
                <a:off x="1265400" y="3162240"/>
                <a:ext cx="515880" cy="37476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265400" y="3162240"/>
                <a:ext cx="51588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1417680" y="3314880"/>
              <a:ext cx="515880" cy="374400"/>
              <a:chOff x="1417680" y="3314880"/>
              <a:chExt cx="515880" cy="374400"/>
            </a:xfrm>
          </p:grpSpPr>
          <p:sp>
            <p:nvSpPr>
              <p:cNvPr id="65" name=""/>
              <p:cNvSpPr/>
              <p:nvPr/>
            </p:nvSpPr>
            <p:spPr>
              <a:xfrm>
                <a:off x="1417680" y="3314880"/>
                <a:ext cx="515880" cy="37440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17680" y="3314880"/>
                <a:ext cx="51588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1569960" y="3467160"/>
              <a:ext cx="516240" cy="374760"/>
              <a:chOff x="1569960" y="3467160"/>
              <a:chExt cx="516240" cy="374760"/>
            </a:xfrm>
          </p:grpSpPr>
          <p:sp>
            <p:nvSpPr>
              <p:cNvPr id="68" name=""/>
              <p:cNvSpPr/>
              <p:nvPr/>
            </p:nvSpPr>
            <p:spPr>
              <a:xfrm>
                <a:off x="1569960" y="3467160"/>
                <a:ext cx="516240" cy="37476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569960" y="3467160"/>
                <a:ext cx="51624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722600" y="3619440"/>
              <a:ext cx="515880" cy="374760"/>
              <a:chOff x="1722600" y="3619440"/>
              <a:chExt cx="515880" cy="374760"/>
            </a:xfrm>
          </p:grpSpPr>
          <p:sp>
            <p:nvSpPr>
              <p:cNvPr id="71" name=""/>
              <p:cNvSpPr/>
              <p:nvPr/>
            </p:nvSpPr>
            <p:spPr>
              <a:xfrm>
                <a:off x="1722600" y="3619440"/>
                <a:ext cx="515880" cy="374760"/>
              </a:xfrm>
              <a:custGeom>
                <a:avLst/>
                <a:gdLst/>
                <a:ahLst/>
                <a:rect l="l" t="t" r="r" b="b"/>
                <a:pathLst>
                  <a:path w="1437" h="1046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lnTo>
                      <a:pt x="0" y="915"/>
                    </a:lnTo>
                    <a:cubicBezTo>
                      <a:pt x="0" y="984"/>
                      <a:pt x="325" y="1045"/>
                      <a:pt x="716" y="1045"/>
                    </a:cubicBezTo>
                    <a:cubicBezTo>
                      <a:pt x="1109" y="1045"/>
                      <a:pt x="1436" y="984"/>
                      <a:pt x="1436" y="915"/>
                    </a:cubicBezTo>
                    <a:lnTo>
                      <a:pt x="1436" y="130"/>
                    </a:ln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666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22600" y="3619440"/>
                <a:ext cx="515880" cy="94680"/>
              </a:xfrm>
              <a:custGeom>
                <a:avLst/>
                <a:gdLst/>
                <a:ahLst/>
                <a:rect l="l" t="t" r="r" b="b"/>
                <a:pathLst>
                  <a:path w="1437" h="264">
                    <a:moveTo>
                      <a:pt x="716" y="0"/>
                    </a:moveTo>
                    <a:cubicBezTo>
                      <a:pt x="325" y="0"/>
                      <a:pt x="0" y="60"/>
                      <a:pt x="0" y="130"/>
                    </a:cubicBezTo>
                    <a:cubicBezTo>
                      <a:pt x="0" y="202"/>
                      <a:pt x="325" y="263"/>
                      <a:pt x="716" y="263"/>
                    </a:cubicBezTo>
                    <a:cubicBezTo>
                      <a:pt x="1109" y="263"/>
                      <a:pt x="1436" y="202"/>
                      <a:pt x="1436" y="130"/>
                    </a:cubicBezTo>
                    <a:cubicBezTo>
                      <a:pt x="1436" y="60"/>
                      <a:pt x="1109" y="0"/>
                      <a:pt x="716" y="0"/>
                    </a:cubicBezTo>
                    <a:lnTo>
                      <a:pt x="716" y="0"/>
                    </a:lnTo>
                  </a:path>
                </a:pathLst>
              </a:custGeom>
              <a:solidFill>
                <a:srgbClr val="6f6fa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"/>
          <p:cNvSpPr/>
          <p:nvPr/>
        </p:nvSpPr>
        <p:spPr>
          <a:xfrm>
            <a:off x="4273560" y="292248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73560" y="379872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42080" y="379872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42080" y="292248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92248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3798720"/>
            <a:ext cx="291960" cy="3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93880" y="3441600"/>
            <a:ext cx="91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92960" y="202248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46880" y="20224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ird party softwa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oconductor (biomaRt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sch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vern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java libr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S ProServ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perl libr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523880" y="1627200"/>
            <a:ext cx="6266160" cy="422424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1766880" y="1619280"/>
            <a:ext cx="5524560" cy="441972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avern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Serv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program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S request and responses defined by Exportables and Importables and configured by MartEdi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S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ere are we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.2 released in febru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.3 to be released  in ju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tf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tg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bust error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ere are we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oMart v 0.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scale data federation (Hinxt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prot Proteomes,MSD,Ensembl,Veg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mizing access to a large data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sembl, WormBase, ArrayExp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derating small datasets with publi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steur, INRA, Bayer, Unilever, Serono, Sanofi-Aventis, DevGen, etc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mmediate Fu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tBuild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ML configu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t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a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igur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4764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cknowledgm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mian Smedley (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rin London (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ll Spooner (CSH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ibu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ne Stabenau (Ensemb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reas Kahari (Ensemb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aig Melsopp (Ensemb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aterina Tzouvara (Unipro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ul Donlon (Unilev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ganised into 1 - n tables with 0,1 level referencing (database vie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ters, Attrib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rtables, Importables, Lin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erties captured by dataset configuration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derived from source schema by fixed schema trans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s and sche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ional DB analo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dataset -&gt;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tional attributes translated to unique filters and attribu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rtable/importable -&gt;PK/F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llection of datasets with unique names create a virtual 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tructured and ‘ad hoc’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atabase view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35040" y="3219480"/>
            <a:ext cx="1968480" cy="1289160"/>
            <a:chOff x="635040" y="3219480"/>
            <a:chExt cx="1968480" cy="1289160"/>
          </a:xfrm>
        </p:grpSpPr>
        <p:sp>
          <p:nvSpPr>
            <p:cNvPr id="88" name=""/>
            <p:cNvSpPr/>
            <p:nvPr/>
          </p:nvSpPr>
          <p:spPr>
            <a:xfrm>
              <a:off x="635040" y="36766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06360" y="32194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06360" y="36766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5040" y="42292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78040" y="36766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9360" y="36766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49360" y="32194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78040" y="32194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78040" y="42292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06360" y="42292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49360" y="4229280"/>
              <a:ext cx="25416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5040" y="3219480"/>
              <a:ext cx="253800" cy="2793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64040" y="3562200"/>
            <a:ext cx="253800" cy="27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191120" y="3143160"/>
            <a:ext cx="965160" cy="1613160"/>
            <a:chOff x="4191120" y="3143160"/>
            <a:chExt cx="965160" cy="1613160"/>
          </a:xfrm>
        </p:grpSpPr>
        <p:sp>
          <p:nvSpPr>
            <p:cNvPr id="102" name=""/>
            <p:cNvSpPr/>
            <p:nvPr/>
          </p:nvSpPr>
          <p:spPr>
            <a:xfrm>
              <a:off x="4191120" y="4197240"/>
              <a:ext cx="25380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17840" y="3143160"/>
              <a:ext cx="25416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75040" y="3917880"/>
              <a:ext cx="25416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02120" y="4476600"/>
              <a:ext cx="254160" cy="27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876920" y="3295800"/>
            <a:ext cx="736560" cy="698400"/>
            <a:chOff x="4876920" y="3295800"/>
            <a:chExt cx="736560" cy="698400"/>
          </a:xfrm>
        </p:grpSpPr>
        <p:sp>
          <p:nvSpPr>
            <p:cNvPr id="107" name=""/>
            <p:cNvSpPr/>
            <p:nvPr/>
          </p:nvSpPr>
          <p:spPr>
            <a:xfrm>
              <a:off x="4876920" y="3295800"/>
              <a:ext cx="25380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59320" y="3714840"/>
              <a:ext cx="254160" cy="279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858000" y="3244680"/>
            <a:ext cx="1346040" cy="1194120"/>
            <a:chOff x="6858000" y="3244680"/>
            <a:chExt cx="1346040" cy="1194120"/>
          </a:xfrm>
        </p:grpSpPr>
        <p:sp>
          <p:nvSpPr>
            <p:cNvPr id="110" name=""/>
            <p:cNvSpPr/>
            <p:nvPr/>
          </p:nvSpPr>
          <p:spPr>
            <a:xfrm>
              <a:off x="7391520" y="3664080"/>
              <a:ext cx="253800" cy="27936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91520" y="3244680"/>
              <a:ext cx="253800" cy="27972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50240" y="3664080"/>
              <a:ext cx="253800" cy="27936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16720" y="4159080"/>
              <a:ext cx="254160" cy="27972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58000" y="3676680"/>
              <a:ext cx="254160" cy="279360"/>
            </a:xfrm>
            <a:prstGeom prst="rect">
              <a:avLst/>
            </a:prstGeom>
            <a:solidFill>
              <a:srgbClr val="dbd9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657600" y="2844720"/>
            <a:ext cx="2349360" cy="2184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722920" y="2295360"/>
            <a:ext cx="43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9696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3160" y="2281320"/>
            <a:ext cx="43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9592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743280" y="3025800"/>
            <a:ext cx="1644840" cy="896760"/>
            <a:chOff x="3743280" y="3025800"/>
            <a:chExt cx="1644840" cy="896760"/>
          </a:xfrm>
        </p:grpSpPr>
        <p:sp>
          <p:nvSpPr>
            <p:cNvPr id="121" name=""/>
            <p:cNvSpPr/>
            <p:nvPr/>
          </p:nvSpPr>
          <p:spPr>
            <a:xfrm>
              <a:off x="3743280" y="3025800"/>
              <a:ext cx="1644840" cy="896760"/>
            </a:xfrm>
            <a:prstGeom prst="roundRect">
              <a:avLst>
                <a:gd name="adj" fmla="val 21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43280" y="3219480"/>
              <a:ext cx="16430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41920" y="3298680"/>
              <a:ext cx="233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P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473200" y="1863720"/>
            <a:ext cx="3460680" cy="2654280"/>
            <a:chOff x="2473200" y="1863720"/>
            <a:chExt cx="3460680" cy="2654280"/>
          </a:xfrm>
        </p:grpSpPr>
        <p:grpSp>
          <p:nvGrpSpPr>
            <p:cNvPr id="125" name=""/>
            <p:cNvGrpSpPr/>
            <p:nvPr/>
          </p:nvGrpSpPr>
          <p:grpSpPr>
            <a:xfrm>
              <a:off x="3757320" y="2854080"/>
              <a:ext cx="1363680" cy="457200"/>
              <a:chOff x="3757320" y="2854080"/>
              <a:chExt cx="136368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3757320" y="29764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149360" y="28540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37040" y="2854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43200" y="28540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473200" y="1863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98800" y="1863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23960" y="4060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49560" y="40482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449440" y="2044800"/>
            <a:ext cx="4228920" cy="2861640"/>
            <a:chOff x="2449440" y="2044800"/>
            <a:chExt cx="4228920" cy="2861640"/>
          </a:xfrm>
        </p:grpSpPr>
        <p:sp>
          <p:nvSpPr>
            <p:cNvPr id="136" name=""/>
            <p:cNvSpPr/>
            <p:nvPr/>
          </p:nvSpPr>
          <p:spPr>
            <a:xfrm>
              <a:off x="3743280" y="3025440"/>
              <a:ext cx="1644840" cy="896040"/>
            </a:xfrm>
            <a:prstGeom prst="roundRect">
              <a:avLst>
                <a:gd name="adj" fmla="val 21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43280" y="3218400"/>
              <a:ext cx="16430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56320" y="2044800"/>
              <a:ext cx="1022040" cy="68544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56320" y="2219760"/>
              <a:ext cx="10202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23280" y="2294640"/>
              <a:ext cx="433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49440" y="2044800"/>
              <a:ext cx="1022040" cy="68544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9440" y="2219760"/>
              <a:ext cx="10202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56320" y="4221360"/>
              <a:ext cx="1022040" cy="68508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56320" y="4400280"/>
              <a:ext cx="1020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49440" y="4221360"/>
              <a:ext cx="1022040" cy="685080"/>
            </a:xfrm>
            <a:prstGeom prst="roundRect">
              <a:avLst>
                <a:gd name="adj" fmla="val 28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49440" y="4400280"/>
              <a:ext cx="1020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469680" y="3919680"/>
              <a:ext cx="27144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69680" y="2726280"/>
              <a:ext cx="271440" cy="29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384160" y="2724120"/>
              <a:ext cx="27180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84160" y="3919680"/>
              <a:ext cx="271800" cy="29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96240" y="4471560"/>
              <a:ext cx="431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12080" y="2280960"/>
              <a:ext cx="430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95560" y="4471560"/>
              <a:ext cx="431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F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41560" y="3299400"/>
              <a:ext cx="23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Bitstream Vera Serif"/>
                  <a:ea typeface="HG Mincho Light J;MS Gothic;HG "/>
                </a:rPr>
                <a:t>P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487600" y="1973160"/>
            <a:ext cx="3684240" cy="2504160"/>
            <a:chOff x="2487600" y="1973160"/>
            <a:chExt cx="3684240" cy="2504160"/>
          </a:xfrm>
        </p:grpSpPr>
        <p:grpSp>
          <p:nvGrpSpPr>
            <p:cNvPr id="156" name=""/>
            <p:cNvGrpSpPr/>
            <p:nvPr/>
          </p:nvGrpSpPr>
          <p:grpSpPr>
            <a:xfrm>
              <a:off x="3770280" y="2963880"/>
              <a:ext cx="1589040" cy="307080"/>
              <a:chOff x="3770280" y="2963880"/>
              <a:chExt cx="1589040" cy="307080"/>
            </a:xfrm>
          </p:grpSpPr>
          <p:sp>
            <p:nvSpPr>
              <p:cNvPr id="157" name=""/>
              <p:cNvSpPr/>
              <p:nvPr/>
            </p:nvSpPr>
            <p:spPr>
              <a:xfrm>
                <a:off x="377028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6376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5144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557600" y="2963880"/>
                <a:ext cx="40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2487600" y="19731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13200" y="19731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8360" y="41702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63960" y="41576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743280" y="3025800"/>
            <a:ext cx="1644840" cy="896760"/>
          </a:xfrm>
          <a:prstGeom prst="roundRect">
            <a:avLst>
              <a:gd name="adj" fmla="val 21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43280" y="3219480"/>
            <a:ext cx="164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56320" y="20448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56320" y="2219400"/>
            <a:ext cx="10206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22920" y="2295360"/>
            <a:ext cx="43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49440" y="20448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49440" y="2219400"/>
            <a:ext cx="1020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6320" y="42210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56320" y="4400640"/>
            <a:ext cx="102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49440" y="4221000"/>
            <a:ext cx="1022400" cy="685800"/>
          </a:xfrm>
          <a:prstGeom prst="roundRect">
            <a:avLst>
              <a:gd name="adj" fmla="val 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49440" y="4400640"/>
            <a:ext cx="1020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470400" y="3919680"/>
            <a:ext cx="27144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70400" y="2725560"/>
            <a:ext cx="271440" cy="3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384880" y="2724120"/>
            <a:ext cx="27144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84880" y="3919680"/>
            <a:ext cx="27144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9696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3160" y="2281320"/>
            <a:ext cx="43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95920" y="447192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F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41920" y="3298680"/>
            <a:ext cx="233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Bitstream Vera Serif"/>
                <a:ea typeface="HG Mincho Light J;MS Gothic;HG "/>
              </a:rPr>
              <a:t>P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744720" y="2854440"/>
            <a:ext cx="1363680" cy="457200"/>
            <a:chOff x="3744720" y="2854440"/>
            <a:chExt cx="1363680" cy="457200"/>
          </a:xfrm>
        </p:grpSpPr>
        <p:sp>
          <p:nvSpPr>
            <p:cNvPr id="186" name=""/>
            <p:cNvSpPr/>
            <p:nvPr/>
          </p:nvSpPr>
          <p:spPr>
            <a:xfrm>
              <a:off x="3744720" y="2976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36760" y="28544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24440" y="2854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30600" y="2854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462040" y="1986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88000" y="1986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2800" y="418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38760" y="417024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8:11:45Z</dcterms:created>
  <dc:creator>arek</dc:creator>
  <dc:description/>
  <dc:language>en-US</dc:language>
  <cp:lastModifiedBy>Office 2004 Test Drive Arek Kasprzyk</cp:lastModifiedBy>
  <cp:lastPrinted>2004-04-24T07:05:00Z</cp:lastPrinted>
  <dcterms:modified xsi:type="dcterms:W3CDTF">2005-05-20T08:18:24Z</dcterms:modified>
  <cp:revision>1136</cp:revision>
  <dc:subject/>
  <dc:title>BioMart</dc:title>
</cp:coreProperties>
</file>